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37CC-0DD5-4090-9FA3-EBF0449B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85C2-1BE6-4C5B-A6F0-D6ABB92B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5AF89-0E5C-4F42-8E5D-34F0334B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20A13-27A0-4B3D-86A8-65C979B8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CC56A-B440-4577-8D49-15A7CEA4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56BFD-6E3F-4A95-86E9-29EEE633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9FB4D-D801-413C-8E35-33E07C9F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AA899-4E39-4435-BB37-B5541148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C2DED-A381-429A-B6B8-E3A9757A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39313-D407-430C-941D-E2E9F366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D6C2A-73D9-49F2-A977-48FAA8E2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6841C-477A-4291-B783-1FF37C37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0F2D-0BAA-4928-BD57-338B623B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AA51F-0AAF-4392-A87C-9AA069A8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418E0-5956-4F9D-9750-609EA9BF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0B522-ED1A-4805-9AC3-F00F98B7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5E43B-2008-4C7C-90BF-C64E64C1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92C64-AD19-4F72-BB33-91330FFC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E7AC2-0EF1-4967-8F23-315A5A3B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368DE-6151-4710-B414-C0E7658D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B3CE4-51D1-4BAA-B5D2-4315BF0E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1B22E-D266-4602-9C7B-A4FCF980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16690-9626-4A57-B6DE-D022A759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47B-E0E6-4D5A-922D-C239FA88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23F0B-4207-42D5-81EB-70714BE8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F047DE-A788-47BB-B16A-B782B853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3A3FE4-E773-4CE6-AC82-DDE6A697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422316-15CE-49CD-8F7D-21935605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CA9B5E-5675-4643-8A62-2DCAA9CB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87F4FA-D0D4-4498-8560-720A3CD4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64118B-6C89-412C-BFA1-54071649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54F500-242D-4BB8-88BB-DDE45723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82350A-07E6-40B5-91FA-CA057B8E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C2D3E3-0A00-40F2-B6E3-E416496E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8E9C-8A6F-44B5-9184-2061FDE6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30736D-3AFE-4789-B68B-61D6582A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155F94-5DE6-4169-A9AC-CE0328B5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8ED96D-CBD8-48F2-BA04-85CFBAE9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31501-3CF6-40A6-8410-639F8217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7012A-2DB4-4582-8A0D-F39E2351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50067-22C3-474E-9428-84DF6957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36B24-3362-4195-95C6-7661CD31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6A081-E974-4E29-A04A-917B6A1D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29FAE-59C9-42E4-818D-8C18C892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3B15C-78CB-4A19-A8AA-53DAFC67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B745-50AB-48D5-8418-C63D8254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08D97-10F9-429C-B9A5-EAA93C69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E433E-AD4C-4F33-AC56-A4383E4F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B6DA3-6EC0-4465-AFA8-2FF398D8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1E084-9BA6-462A-B38E-AE242BD3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328AE-60C5-437E-90C0-528BA74F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767C-0E87-4385-B693-FE4ED952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5AEF-9303-44E4-A3E5-D275E569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296E-F1E1-47E5-B567-AE6DE36C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4BF1-E87D-42C0-BFCD-C305C75B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C193-990C-4AF2-9D38-9896CBF1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ACAC-1E70-46F3-8561-37A9D782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9B36-5B1E-4093-B7B8-AFBF4185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AAE3-7285-4F0F-98D9-1CCC3765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0988-4B51-4487-813B-00478F6F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AD13-4B92-49F7-9394-80C61F2E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6A2E-E79F-48D4-AFF9-D21EC0EE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FB65C-70FE-4F9F-8CA6-28B12C5E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20B97-997E-4945-8DAB-BCBC8C95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FEDED-24A9-48D7-B4E5-D51293CD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9E660-5AE5-4FF9-AA16-DBAFC7E8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3A817-1BA5-4C41-8E9C-47BF5A4D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D45F-7722-4800-BE1B-44D4F7EF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6C53E-5E7C-445E-A666-259B1EBB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30E60-24A4-4458-9E24-E487531E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E0A56-CACA-46F3-B12C-5E31CC3C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E86D8-BDBE-40F5-BB91-A4AFA6E7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63A2A-DBB0-4DD5-A908-60AF4960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8DE4F-2B1A-494F-B2A7-1E6CCE14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0AD28-ED66-44E7-B801-CB8F782C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0475C4-75B8-4CCE-8B63-E139AA87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440D08-07B7-4204-93DA-FECE0C65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7677A6-48FB-4231-9387-C2F7E439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4C0-FFBC-4E91-A29E-6B94422B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0995AA-CABB-4DE8-81D2-F3D83DCB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43AAA0-2C6E-48EF-AF64-B0079839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A441A0-23D1-4FE9-9AC3-AFCBB2B8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561DD9-2A4B-4BF6-8961-5BCA501B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452F8E-E97B-440C-8793-782CAF82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2435B1-17B4-4B13-B7FC-3235A86D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F85B64-C547-4D6F-AE42-BBBCAAA0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DADA6F-3A46-4BFE-A0EB-F700A736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F0BB3A-6705-45D9-8E37-EC00E214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76D50-3703-472C-A2C1-08585561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3E7F-DA96-450C-BB44-30ADD2F3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54FF9-EF01-4453-8681-52C7D39F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200BC-5778-4CAE-9033-D5B87DD7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181C2-343A-4B3F-B0C7-336F0F66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79F28-1E93-40B5-83A3-EA47A796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51A74-AF48-427A-8076-241EDAF5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F2B34-536F-423B-ABED-88A20FF4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1944E-328E-4198-8BF6-49FABFDE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7BD02-72E5-4BEF-BF0C-803C8068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12F69-2D74-460C-9B84-67559B0A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82C60-4B6D-4AA9-9F08-179EEC2F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3170-24CE-452A-B45A-263ECC3C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7F1B1-FEDB-4CC0-A29D-B556AC23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009B9-C071-46CE-B9D0-92434F16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9CBAE-2D1F-4D57-8B05-10BB0888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77E76-A678-4FCA-B623-E55E484E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5941D-5A7F-4588-A707-7B60E821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55312-410F-4CB0-9DFC-E616E61A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8E468-10C1-4D10-9166-8ADA1A19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DCD48-5CA7-499E-8B93-A2665044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E2BCE-D999-4F65-8DAD-EC89D156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62531-A752-4392-AABD-254895EF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ADA-E507-4144-A532-D8545DF2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D96FA-4838-4C31-8AD7-75E0F8EC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A64D9-EAB7-46E9-A634-87DCA5BC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DF9D6-1AC7-4CE2-8817-6B363022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677BF-9112-4E63-929E-F4E19BA1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35778-BC4C-4770-B5F0-883A1EAF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A456C-0643-4C81-B813-C628A56D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C3F31-09B1-431C-81AC-C5E3AF6D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62458-0AC8-4903-B0EA-FA276177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B26FA-25FE-44AF-984E-B0787BF9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E74DC-FD23-4CBE-9989-96188766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273A-8A5D-4715-A0D3-A4C59422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1D836-5EE7-45B4-A31E-FDED20C1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29F3F-4A2D-43DE-A3B3-49ED9B5E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728B9-5BCC-4051-89F8-C3BF4FEA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4AEE1-C2C6-4560-8FA4-2B843C99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95329-1464-468B-AD16-3CFE92C0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EFA90-8C4D-4071-95D3-A532B3DF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BA25A-7E7E-4CE0-BB32-42C108DA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4A013-790B-4BE8-B8DF-ADC2E821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80585-72B1-41F8-9725-6616798D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CD6F1-876B-43F9-A7BF-54283F2B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8B89-8E95-4CA7-87B4-846D25CC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9607A-1EE5-4556-84F6-C9DC9DA3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497D6-6C68-4117-B6D3-19925CFB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21B37-5E75-49ED-B8BB-D6350CE6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6605C-74D2-4739-B41F-94E0A332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916F8-3322-40C1-A55A-60496DD1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FA62A-1070-46D8-BD2A-F7D8A413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309DA-F23B-4CAA-B230-913C44D3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B570F-DBDF-4376-820D-EBEEF268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0947A-2AF4-482F-A16E-C35FFE89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FDC79-E722-46A1-B8F9-8F2E8B97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E95F-6EDB-4799-841C-64B7B9DFD1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4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908F-36F8-4E84-A231-8483EF411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B087-412A-43B1-B55D-FCF1A1C297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4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4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3AD6-6851-4E22-8816-BEE6061A86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6FC3-1A4D-41DA-97D2-3E7453E00C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F0E4-D730-4538-8204-4A8E94A741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6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6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6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D459-F092-4D80-B467-8F3A380D78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4BA4-4012-425C-83EC-E005E0590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8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93DC-C4EF-4BA0-886A-8842EEB78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4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4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6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DBAB-201F-4D3B-BB31-54CCFA843FA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1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2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356A-5CD1-479A-AF4E-88125E0E4FB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9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AA08-23B5-4BEC-8663-870E27B9C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7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2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611280" y="1484280"/>
            <a:ext cx="7777080" cy="403236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ре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ужны ли нам стресс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еобходим, чтобы достичь пика в работ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Это двигатель прогресса в нашей жи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 каждого индивидуума свой пик продуктивност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Что нужно делать чтобы не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ришли к моральному срыву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алансировать свои нужд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бота о себе и других в хорошем баланс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иды стресс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Положи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свадьба, рождение ребенка, выбор профессии, любов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Отрица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нагрузка на работе, болезни, ссоры, финансовые и  семейные проблемы, смерть близких, страх, опасность, плохая окружающая сре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997000"/>
            <a:ext cx="83851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ффекты стрес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95280" y="83664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"/>
              </a:rPr>
              <a:t>РЕАКЦИЯ ОРГАНИЗМА НА ВНЕЗАПНЫЙ СТРЕСС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изический: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4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8" name="" descr=""/>
          <p:cNvPicPr/>
          <p:nvPr/>
        </p:nvPicPr>
        <p:blipFill>
          <a:blip r:embed="rId6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3851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Моральный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забывчив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сосредоточ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дражение , па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ложность принятия ре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убитое со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очар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Психически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торванность от об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выслушать друг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контролируемое время раз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ищет шу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фокусировка на отрицательном эффек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т сдержанности в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7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Духовны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теряют цель и смысл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окружающ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Бо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611280" y="1557360"/>
            <a:ext cx="8137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 предупредить стрес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8964720" y="667872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28033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4560" y="2166840"/>
            <a:ext cx="8762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Состояние,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возникающее при действии чрезвычайных или патолог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раздражителей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 приводящих к напряжению неспециф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адаптационных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механизмов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рганизм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440" y="83880"/>
            <a:ext cx="792468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РАЗУМНОЕ ПРИСПОСОБЛЕ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120"/>
            <a:ext cx="77724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5e5ff"/>
                </a:solidFill>
                <a:latin typeface="Garamond"/>
              </a:rPr>
              <a:t>ЗДОРОВЫЙ ОБРАЗ </a:t>
            </a:r>
            <a:r>
              <a:rPr b="0" lang="en-US" sz="5000" spc="-1" strike="noStrike">
                <a:solidFill>
                  <a:srgbClr val="e5e5ff"/>
                </a:solidFill>
                <a:latin typeface="Garamond"/>
              </a:rPr>
              <a:t>ЖИЗНИ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ЛАНИРОВА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 БЕСПОКОЙТЕСЬ О БУДУЩ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28240" y="16812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ЫШ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68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УШЕВНЫЙ ПОКОЙ И ИСЦЕ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78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ОМОЩЬ ДРУГИМ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Verdana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ДОВЕРИЕ БОГ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7440"/>
            <a:ext cx="77724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ХРИСТОС В СЕРДЦ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179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95280" y="2492280"/>
            <a:ext cx="8352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тресс = стрессор + реакц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132000" y="4221000"/>
            <a:ext cx="48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%                                                     90%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СЕМЬ КЛЮЧЕЙ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Стресс – это не то, что случается с нами, а то, как мы реагируем на это 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тревоги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билизация исходных си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резистентности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сопротивл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знание и борьба с не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истощ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дром приобретает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тогенный характ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619280" y="620640"/>
            <a:ext cx="648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щий адаптационный синдром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46044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ТАДИИ СТРЕ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пределяется реактивностью орган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еактивность зависит от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наследственных свойств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ранее перенесенных воздействи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возрас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692360" y="404640"/>
            <a:ext cx="6551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арактер стресс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Исход стресс-реак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врат к первоначальному состоянию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никновение боле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БОЛЕЗНИ СВЯЗАННЫЕ СО СТРЕСС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05:29:31Z</dcterms:created>
  <dc:creator>cb</dc:creator>
  <dc:description/>
  <dc:language>en-US</dc:language>
  <cp:lastModifiedBy>cb</cp:lastModifiedBy>
  <dcterms:modified xsi:type="dcterms:W3CDTF">2006-03-19T18:34:47Z</dcterms:modified>
  <cp:revision>13</cp:revision>
  <dc:subject/>
  <dc:title>Стресс</dc:title>
</cp:coreProperties>
</file>